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10699750" cy="755650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556400" cy="106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7556400" cy="1069992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9920"/>
              <a:gd name="textAreaBottom" fmla="*/ 10699560 h 10699920"/>
            </a:gdLst>
            <a:ahLst/>
            <a:rect l="textAreaLeft" t="textAreaTop" r="textAreaRight" b="textAreaBottom"/>
            <a:pathLst>
              <a:path w="21600" h="30585">
                <a:moveTo>
                  <a:pt x="4" y="0"/>
                </a:moveTo>
                <a:arcTo wR="4" hR="4" stAng="16200000" swAng="-5400000"/>
                <a:lnTo>
                  <a:pt x="0" y="30581"/>
                </a:lnTo>
                <a:arcTo wR="4" hR="4" stAng="10800000" swAng="-5400000"/>
                <a:lnTo>
                  <a:pt x="21596" y="3058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0" y="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dt" idx="22"/>
          </p:nvPr>
        </p:nvSpPr>
        <p:spPr>
          <a:xfrm>
            <a:off x="4280040" y="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38160" y="802800"/>
            <a:ext cx="5678640" cy="4010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755640" y="5083200"/>
            <a:ext cx="6043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0" y="1016316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3"/>
          </p:nvPr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092191-202E-4346-A55C-930BD070B1E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01F4BD-97CF-495B-A361-11262614AB4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EE325E-D9D5-4956-98AC-082BD177BED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D9E9C8-7818-46C0-A4A0-E8B6BFE0213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F760BD-5264-484F-BCB5-6F89E6591B3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C18C36-B417-4C5E-914A-1709B0D1DAA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59ADC5-D82C-4444-AC79-26C414679BA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F18-8C02-4F89-AE40-F4CBECBB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8A4-C34E-4700-8ED2-202EC913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4FA-9CDC-4890-A4FD-C0C7C642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6A10-5729-4454-A906-810C3A37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1959-2BEA-405F-8320-8BEC3BB4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941A-F279-4A16-8EFF-2DAD213C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2C92-78A2-41E8-B54C-76BC1ED8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228E-294A-4719-874B-6A80A8CE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64C9-EC55-44DB-B4F4-ECF44FE7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1B33-0CEF-4589-926A-445E07C3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2BAD-983E-4C38-9E9D-2E5597C9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92F-DA8C-48F4-B5B4-7FD590BC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0E89-EB24-4851-85A1-10ABF2E7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47F7-E45E-49ED-9345-017D5886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4A86-C902-4CC6-AB9C-9567B33B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912E-0C38-4848-A9DC-502738BF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DA76-1DBA-4C9F-93C5-7CFB48F6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FAF30-EB57-46AA-803C-6ABD8C11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A6057-A864-433F-91C8-CAD0983B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B68CA-2A60-4B92-AC30-F97A703F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C079C-B476-4032-A46F-D98E6B91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0D4CF-6921-4527-B01B-A595474A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E990-01F4-4963-BD84-6F3BCD7E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4AE99-6119-4776-AD94-CEC4BBA7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34832-BDFA-4E41-AF37-A967840E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E38D5-E413-45EA-AA60-955520E6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B154A-CE60-489B-A0B2-1D8A9A06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CD53D-1BE9-41D6-BC07-E6E10FA4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C6731-B009-4F4F-9F37-55B78F52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A6B2C-4B69-4089-BF7B-2DB5D8D7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C2EA6-B595-4526-A2BB-4A3D6A14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56BFA-02B6-434C-9BEA-53BAF6C3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A0965-F4FA-4B28-916B-29D5BF4D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B51-8938-4D83-93FA-B5AA3208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F6611-99B6-4402-9B8E-2CAFAEC6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15CA1-075B-401D-806D-46264983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BBA5C-31E1-4FB3-8C82-FC58D6C8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0A183-DD9C-4612-884B-92DA9669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0B766-11F7-4A3D-AF53-258C96AA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09311-A4A9-48C1-BEB1-176567CC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B7E94-370C-453C-B843-7C335E52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0294F-E1CA-4414-A5D8-C0C17D4E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BD09B-CE5F-4519-8454-E30CB591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2FB6EA-98FC-41F0-A49B-557BB847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340-0887-483E-B757-7FDDEC48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B452F-396F-4125-96B7-90DC55E0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FD348-79BB-4AF2-AE49-C0C202E8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9CDA7-BC4D-4DE3-9B0C-10732BB9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D5F55-B096-4A27-B772-F981B022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42264-994C-423E-A063-C8F0AE9F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DC554-58A4-4892-BCB2-228830C4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3B9DB-3A2C-4D0D-89A6-ED1305EB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5F242-6CD9-45BE-BF6D-0C695344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87BB6-E85D-4A1C-B99D-A51FA01E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E8C48-BA85-4C18-90FE-C3642710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8B5C-0146-4E62-B163-E6632FAF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66113-7994-47AE-A975-684C63E1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CE3CB-F210-4BDC-9F91-F14F839B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FA511-9153-40F9-AF48-E53E09A0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DF773-87B9-440E-8855-F2828163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F060D-7982-4B51-872B-F1511C97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05AEB6-58F2-4D45-84BC-3A2BA980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B1E09-8E1C-43CA-91B9-96BF5971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1A4A4-44F4-46BF-9F29-044CBEDE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D6BD44-C298-4561-9474-E50ECDB8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19345-2AD5-4FD0-B1EA-CCBEE148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0A9-0BA0-4090-BA01-83823B82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BDD83-6506-497E-A1AD-BE49B2BE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D9D26-EBF4-49B2-824F-98257F8E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DD1DBA-00D2-4F10-9AC3-9C00F8A2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2A3940-D929-4135-A7BE-2E0E728D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42AAB8-6EE7-4CC0-9E4F-A34A7E71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C23362-08FA-4ED4-BD2B-57A82361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5E6FE1-82A6-4F0C-8F62-C7566812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9321B2-0F46-4D25-BEBA-4E5A4262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ADBF95-0A14-4477-B2D6-272BF435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2B198-0010-4C01-93E2-4DE541EE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57F-424C-486A-9FE7-6198EC3C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B043E-0BC1-45AB-89EC-AAF370A7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6DBEE8-57FB-4610-92DB-1F1141C0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71ABD9-E932-4ED1-A46D-AED93FA9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EBF94-45B2-454F-AB9E-4D86E864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6212EB-4FB7-4D02-B68C-B8EF2EB1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583-B667-429E-97CE-996176A4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307625-F78F-4839-97B6-4B2C3BBBF575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1066500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53180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947960" y="6377040"/>
            <a:ext cx="320400" cy="303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2228760" y="495288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9163800" y="1280160"/>
            <a:ext cx="2517840" cy="446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8406000" y="459432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55088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436132-8F9C-4EA1-8DB0-E547C169E0DE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48D4A0-F26C-44BC-BE39-90A4DA7B4F00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54944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947960" y="6381720"/>
            <a:ext cx="320400" cy="301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2198520" y="493560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10645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9161280" y="1276200"/>
            <a:ext cx="2519280" cy="446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8406000" y="459108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56852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7C5755-C39E-433E-BE37-90F641011DB1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F7FFEF-A211-4865-B6FD-69296F5E0FBA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89B6E6-FB11-4537-A441-3C0A1550C99A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FD6F00-3794-440B-BC42-2B35CC4826E8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0" y="-7938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76360" y="23760"/>
            <a:ext cx="955656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4000" spc="-1" strike="noStrike">
                <a:solidFill>
                  <a:srgbClr val="009900"/>
                </a:solidFill>
                <a:latin typeface="Calibri"/>
              </a:rPr>
              <a:t>CONSELHO DE CLASSE PROGNÓSTICO 2023.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Pauta da Reunião: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1. Apresentação pela CTP da síntese dos dados coletados junto aos pais e aluno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2. Participação oral dos representantes de pais/responsávei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3. Participação oral dos Professores Responsáveis por Turma: 3 min para cada docente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4. Planejamento de ações para o restante do semestre 2023.1 e para a segunda etapa do semestre letivo 2023.2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5. Outros pontos apresentados pela Chefia do 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                                          </a:t>
            </a: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Data: </a:t>
            </a:r>
            <a:r>
              <a:rPr b="1" lang="pt-BR" sz="2800" spc="-1" strike="noStrike">
                <a:solidFill>
                  <a:srgbClr val="009900"/>
                </a:solidFill>
                <a:latin typeface="Calibri"/>
              </a:rPr>
              <a:t>19/04/202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Imagem 3" descr=""/>
          <p:cNvPicPr/>
          <p:nvPr/>
        </p:nvPicPr>
        <p:blipFill>
          <a:blip r:embed="rId1"/>
          <a:srcRect l="29811" t="9323" r="31829" b="32054"/>
          <a:stretch/>
        </p:blipFill>
        <p:spPr>
          <a:xfrm>
            <a:off x="309600" y="303120"/>
            <a:ext cx="7632720" cy="4338720"/>
          </a:xfrm>
          <a:prstGeom prst="rect">
            <a:avLst/>
          </a:prstGeom>
          <a:ln w="0">
            <a:noFill/>
          </a:ln>
        </p:spPr>
      </p:pic>
      <p:pic>
        <p:nvPicPr>
          <p:cNvPr id="380" name="Imagem 5" descr=""/>
          <p:cNvPicPr/>
          <p:nvPr/>
        </p:nvPicPr>
        <p:blipFill>
          <a:blip r:embed="rId2"/>
          <a:srcRect l="29811" t="44022" r="31155" b="30857"/>
          <a:stretch/>
        </p:blipFill>
        <p:spPr>
          <a:xfrm>
            <a:off x="4773600" y="4498920"/>
            <a:ext cx="59263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Imagem 3" descr=""/>
          <p:cNvPicPr/>
          <p:nvPr/>
        </p:nvPicPr>
        <p:blipFill>
          <a:blip r:embed="rId1"/>
          <a:srcRect l="29811" t="15307" r="31155" b="20090"/>
          <a:stretch/>
        </p:blipFill>
        <p:spPr>
          <a:xfrm>
            <a:off x="93600" y="15840"/>
            <a:ext cx="7777080" cy="4554720"/>
          </a:xfrm>
          <a:prstGeom prst="rect">
            <a:avLst/>
          </a:prstGeom>
          <a:ln w="0">
            <a:noFill/>
          </a:ln>
        </p:spPr>
      </p:pic>
      <p:pic>
        <p:nvPicPr>
          <p:cNvPr id="383" name="Imagem 5" descr=""/>
          <p:cNvPicPr/>
          <p:nvPr/>
        </p:nvPicPr>
        <p:blipFill>
          <a:blip r:embed="rId2"/>
          <a:srcRect l="29811" t="65557" r="31155" b="21287"/>
          <a:stretch/>
        </p:blipFill>
        <p:spPr>
          <a:xfrm>
            <a:off x="4773600" y="4641840"/>
            <a:ext cx="5545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236520" y="177840"/>
            <a:ext cx="6769080" cy="4176720"/>
          </a:xfrm>
          <a:prstGeom prst="rect">
            <a:avLst/>
          </a:prstGeom>
          <a:ln w="0">
            <a:noFill/>
          </a:ln>
        </p:spPr>
      </p:pic>
      <p:pic>
        <p:nvPicPr>
          <p:cNvPr id="386" name="Imagem 5" descr=""/>
          <p:cNvPicPr/>
          <p:nvPr/>
        </p:nvPicPr>
        <p:blipFill>
          <a:blip r:embed="rId2"/>
          <a:srcRect l="29811" t="44022" r="31155" b="36841"/>
          <a:stretch/>
        </p:blipFill>
        <p:spPr>
          <a:xfrm>
            <a:off x="4486320" y="4264200"/>
            <a:ext cx="5904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309600" y="393840"/>
            <a:ext cx="7272360" cy="4176720"/>
          </a:xfrm>
          <a:prstGeom prst="rect">
            <a:avLst/>
          </a:prstGeom>
          <a:ln w="0">
            <a:noFill/>
          </a:ln>
        </p:spPr>
      </p:pic>
      <p:pic>
        <p:nvPicPr>
          <p:cNvPr id="389" name="Imagem 5" descr=""/>
          <p:cNvPicPr/>
          <p:nvPr/>
        </p:nvPicPr>
        <p:blipFill>
          <a:blip r:embed="rId2"/>
          <a:srcRect l="29811" t="46412" r="31155" b="36841"/>
          <a:stretch/>
        </p:blipFill>
        <p:spPr>
          <a:xfrm>
            <a:off x="3405240" y="4570560"/>
            <a:ext cx="6985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Imagem 3" descr=""/>
          <p:cNvPicPr/>
          <p:nvPr/>
        </p:nvPicPr>
        <p:blipFill>
          <a:blip r:embed="rId1"/>
          <a:srcRect l="29811" t="8126" r="30482" b="24877"/>
          <a:stretch/>
        </p:blipFill>
        <p:spPr>
          <a:xfrm>
            <a:off x="249120" y="117360"/>
            <a:ext cx="6904080" cy="498636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5" descr=""/>
          <p:cNvPicPr/>
          <p:nvPr/>
        </p:nvPicPr>
        <p:blipFill>
          <a:blip r:embed="rId2"/>
          <a:srcRect l="29811" t="46412" r="30482" b="24877"/>
          <a:stretch/>
        </p:blipFill>
        <p:spPr>
          <a:xfrm>
            <a:off x="4054320" y="4930920"/>
            <a:ext cx="6546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Imagem 3" descr=""/>
          <p:cNvPicPr/>
          <p:nvPr/>
        </p:nvPicPr>
        <p:blipFill>
          <a:blip r:embed="rId1"/>
          <a:srcRect l="29811" t="15307" r="31155" b="35779"/>
          <a:stretch/>
        </p:blipFill>
        <p:spPr>
          <a:xfrm>
            <a:off x="380880" y="465120"/>
            <a:ext cx="7201080" cy="40514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5" descr=""/>
          <p:cNvPicPr/>
          <p:nvPr/>
        </p:nvPicPr>
        <p:blipFill>
          <a:blip r:embed="rId2"/>
          <a:srcRect l="30482" t="44018" r="30482" b="29664"/>
          <a:stretch/>
        </p:blipFill>
        <p:spPr>
          <a:xfrm>
            <a:off x="4054320" y="4516560"/>
            <a:ext cx="64087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Imagem 3" descr=""/>
          <p:cNvPicPr/>
          <p:nvPr/>
        </p:nvPicPr>
        <p:blipFill>
          <a:blip r:embed="rId1"/>
          <a:srcRect l="29811" t="9323" r="30482" b="43161"/>
          <a:stretch/>
        </p:blipFill>
        <p:spPr>
          <a:xfrm>
            <a:off x="236520" y="303120"/>
            <a:ext cx="7993080" cy="4195800"/>
          </a:xfrm>
          <a:prstGeom prst="rect">
            <a:avLst/>
          </a:prstGeom>
          <a:ln w="0">
            <a:noFill/>
          </a:ln>
        </p:spPr>
      </p:pic>
      <p:pic>
        <p:nvPicPr>
          <p:cNvPr id="398" name="Imagem 5" descr=""/>
          <p:cNvPicPr/>
          <p:nvPr/>
        </p:nvPicPr>
        <p:blipFill>
          <a:blip r:embed="rId2"/>
          <a:srcRect l="30284" t="49053" r="31356" b="36593"/>
          <a:stretch/>
        </p:blipFill>
        <p:spPr>
          <a:xfrm>
            <a:off x="3478320" y="4521240"/>
            <a:ext cx="691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Imagem 3" descr=""/>
          <p:cNvPicPr/>
          <p:nvPr/>
        </p:nvPicPr>
        <p:blipFill>
          <a:blip r:embed="rId1"/>
          <a:srcRect l="29811" t="18893" r="31155" b="26074"/>
          <a:stretch/>
        </p:blipFill>
        <p:spPr>
          <a:xfrm>
            <a:off x="309600" y="293760"/>
            <a:ext cx="9504360" cy="3946320"/>
          </a:xfrm>
          <a:prstGeom prst="rect">
            <a:avLst/>
          </a:prstGeom>
          <a:ln w="0">
            <a:noFill/>
          </a:ln>
        </p:spPr>
      </p:pic>
      <p:pic>
        <p:nvPicPr>
          <p:cNvPr id="401" name="Imagem 5" descr=""/>
          <p:cNvPicPr/>
          <p:nvPr/>
        </p:nvPicPr>
        <p:blipFill>
          <a:blip r:embed="rId2"/>
          <a:srcRect l="29811" t="35644" r="31829" b="21287"/>
          <a:stretch/>
        </p:blipFill>
        <p:spPr>
          <a:xfrm>
            <a:off x="309600" y="4240080"/>
            <a:ext cx="9504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Imagem 3" descr=""/>
          <p:cNvPicPr/>
          <p:nvPr/>
        </p:nvPicPr>
        <p:blipFill>
          <a:blip r:embed="rId1"/>
          <a:srcRect l="29138" t="57183" r="29811" b="5732"/>
          <a:stretch/>
        </p:blipFill>
        <p:spPr>
          <a:xfrm>
            <a:off x="534960" y="1582560"/>
            <a:ext cx="9207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525600" y="0"/>
            <a:ext cx="89168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9900"/>
                </a:solidFill>
                <a:latin typeface="Calibri"/>
              </a:rPr>
              <a:t>AÇÕES DESENVOLVIDAS PELA CT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65240" y="825480"/>
          <a:ext cx="10440720" cy="6950160"/>
        </p:xfrm>
        <a:graphic>
          <a:graphicData uri="http://schemas.openxmlformats.org/drawingml/2006/table">
            <a:tbl>
              <a:tblPr/>
              <a:tblGrid>
                <a:gridCol w="2119320"/>
                <a:gridCol w="2268360"/>
                <a:gridCol w="1589040"/>
                <a:gridCol w="1211400"/>
                <a:gridCol w="1663560"/>
                <a:gridCol w="1589040"/>
              </a:tblGrid>
              <a:tr h="6238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164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momentos de atividades pedagógicas com as turmas Ingressantes dos Cursos Técnicos Integrados (2023.1), visando à permanência com êxi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em parceria com as coordenaçõ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1622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, 21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. Medida de Intervenção: 0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tendimento pedagógico dos alunos avaliados no Conselho de Classe Deliberativo 202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(apoio grêmio e coordenaçõ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gistro do quantitativo de atendimen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cesso SEI nº 23486.000023/202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0" y="-7920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689040" y="1230480"/>
            <a:ext cx="869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marL="12600">
              <a:lnSpc>
                <a:spcPts val="3285"/>
              </a:lnSpc>
              <a:spcBef>
                <a:spcPts val="488"/>
              </a:spcBef>
              <a:tabLst>
                <a:tab algn="l" pos="0"/>
                <a:tab algn="l" pos="12600"/>
                <a:tab algn="l" pos="1054080"/>
                <a:tab algn="l" pos="2097000"/>
                <a:tab algn="l" pos="3139920"/>
                <a:tab algn="l" pos="4183200"/>
                <a:tab algn="l" pos="5226120"/>
                <a:tab algn="l" pos="6269040"/>
                <a:tab algn="l" pos="7311960"/>
                <a:tab algn="l" pos="8354880"/>
                <a:tab algn="l" pos="9398160"/>
                <a:tab algn="l" pos="1044108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C. CLASSE PROGNÓS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01560" y="2495520"/>
            <a:ext cx="97934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1160" algn="just">
              <a:lnSpc>
                <a:spcPct val="126000"/>
              </a:lnSpc>
              <a:spcBef>
                <a:spcPts val="88"/>
              </a:spcBef>
              <a:tabLst>
                <a:tab algn="l" pos="0"/>
                <a:tab algn="l" pos="46836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agnosticar problemas cotidian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 não,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e interferem no processo de ensino e aprendizagem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O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ultados de desempenho acadêmic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vem ser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dentificados e analisad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 vistas à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romoção de condições de recuperação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 eventuai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ficuldade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e defasagen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 aprendizagem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visando à superação da retenção e evasão estudantil em cada etapa do período letivo.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534960" y="303120"/>
            <a:ext cx="89168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36520" y="754200"/>
          <a:ext cx="10369440" cy="5621040"/>
        </p:xfrm>
        <a:graphic>
          <a:graphicData uri="http://schemas.openxmlformats.org/drawingml/2006/table">
            <a:tbl>
              <a:tblPr/>
              <a:tblGrid>
                <a:gridCol w="2104920"/>
                <a:gridCol w="2252880"/>
                <a:gridCol w="1577880"/>
                <a:gridCol w="1203480"/>
                <a:gridCol w="1652400"/>
                <a:gridCol w="1577880"/>
              </a:tblGrid>
              <a:tr h="5032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25682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MI9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[...] </a:t>
                      </a:r>
                      <a:r>
                        <a:rPr b="1" lang="pt-BR" sz="1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Reuniões de pais no início de cada período letivo para apresentar o período letivo que o filho cursar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ício do 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5495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24. Incentivar e acompanhar a participação dos estudantes em programas de monitorias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Projeto Círculos para despert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Quantitativo do at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back / relato dos estudantes atendi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893960" y="507960"/>
            <a:ext cx="752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P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516040" y="5381640"/>
            <a:ext cx="39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0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2516040" y="6305400"/>
            <a:ext cx="39384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12600">
              <a:lnSpc>
                <a:spcPct val="101000"/>
              </a:lnSpc>
              <a:spcBef>
                <a:spcPts val="74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1h  15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00160" y="192240"/>
            <a:ext cx="1514520" cy="1353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2" name="Rectangle 5" descr=""/>
          <p:cNvPicPr/>
          <p:nvPr/>
        </p:nvPicPr>
        <p:blipFill>
          <a:blip r:embed="rId2"/>
          <a:stretch/>
        </p:blipFill>
        <p:spPr>
          <a:xfrm>
            <a:off x="1006560" y="993600"/>
            <a:ext cx="8972640" cy="675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534960" y="303120"/>
            <a:ext cx="9352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b050"/>
                </a:solidFill>
                <a:latin typeface="Cambria"/>
                <a:ea typeface="Microsoft YaHei"/>
              </a:rPr>
              <a:t>Professores Responsáveis por Turma 2023.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4" name="Imagem 3" descr=""/>
          <p:cNvPicPr/>
          <p:nvPr/>
        </p:nvPicPr>
        <p:blipFill>
          <a:blip r:embed="rId1"/>
          <a:srcRect l="27794" t="15307" r="25774" b="12909"/>
          <a:stretch/>
        </p:blipFill>
        <p:spPr>
          <a:xfrm>
            <a:off x="165240" y="1690560"/>
            <a:ext cx="10009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65240" y="3201840"/>
          <a:ext cx="10369440" cy="456912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  <a:gridCol w="1728720"/>
                <a:gridCol w="1727280"/>
                <a:gridCol w="1728720"/>
              </a:tblGrid>
              <a:tr h="7369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usa/ Medida de Intervenção do P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scrição da 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sponsável (ei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eríodo de Execu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cursos Necessá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ssos de Avali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8322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62. Ampliar, acompanhar e avaliar o desenvolvimento de outros programas e ações que favoreçam o sucesso da aprendizagem disc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Professor Responsável por Turma de cada turma e demais docent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tante do semestre 2023.1 e todo o semestre letivo 202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416" name="Rectangle 1"/>
          <p:cNvSpPr/>
          <p:nvPr/>
        </p:nvSpPr>
        <p:spPr>
          <a:xfrm>
            <a:off x="165240" y="338760"/>
            <a:ext cx="986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LANEJAMENTO PARA O SEMESTRE LETIVO 2023.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me do Professor Responsável por Turma:  ____________________________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urso/ Turma: _________________________________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ealizar uma atividade integrada e interdisciplinar utilizando a Ferramenta Google Me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Todas as turmas    (   ) Turma (s) específica (s). Qual (is)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fator (es) qualitativo (s) para a permanência e êxito esta atividade se relaciona?      (   ) Fator individual     (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Fator interno à instituição    (    ) Fator externo à instituiçã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aixaDeTexto 2"/>
          <p:cNvSpPr/>
          <p:nvPr/>
        </p:nvSpPr>
        <p:spPr>
          <a:xfrm>
            <a:off x="453960" y="1762200"/>
            <a:ext cx="907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rt.45 Os encaminhamentos feitos nas reuniões de Conselho de Classe prognóstico deverão ser levados à turma pelo seu docente representante, pelo Coordenador do Curso ou pela CTP, conforme acordado nas reuniões de Conselho de Class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4960" y="302760"/>
            <a:ext cx="9136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PROFESSOR(A) RESPONSÁVEL POR TUR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34600" y="1763640"/>
            <a:ext cx="956772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entury Schoolbook"/>
              </a:rPr>
              <a:t>Apresentação das ações executadas na etapa 1, bem como, avaliação global da turma e sugestões aos demais docentes de cada turm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3441240"/>
            <a:ext cx="8999280" cy="2087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VAMOS EM FRENTE!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SEGUIMOS COLABORANDO...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ABRAÇOS DA EQUIPE CTP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2674440" y="5513400"/>
            <a:ext cx="72234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1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CaixaDeTexto 2" descr=""/>
          <p:cNvPicPr/>
          <p:nvPr/>
        </p:nvPicPr>
        <p:blipFill>
          <a:blip r:embed="rId1"/>
          <a:stretch/>
        </p:blipFill>
        <p:spPr>
          <a:xfrm>
            <a:off x="615960" y="1011240"/>
            <a:ext cx="92473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92040" y="1114560"/>
          <a:ext cx="10071000" cy="644364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3120"/>
                <a:gridCol w="2014560"/>
                <a:gridCol w="2014200"/>
              </a:tblGrid>
              <a:tr h="1105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mento de curso dando mais oportun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poio e orientação constante dos professore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paço prático para aplicação das ativ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ocupação que nós pais temos em relação aos transportes (deslocamento) nos dias que eles estudam meio perí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daptação ao sistema de ensino que diferencia do sistema escolar anterior (9º ano) fundamen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oportunidades dadas a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ração do corpo docente e dis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oportunidade dada aos pais para participação junto a gestão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estão atuante visando os alunos e melhoria constante das dependênc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ntualidade e compromi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ração e proximidade constante em diálogos e dúvid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92040" y="1114560"/>
          <a:ext cx="9630000" cy="5894280"/>
        </p:xfrm>
        <a:graphic>
          <a:graphicData uri="http://schemas.openxmlformats.org/drawingml/2006/table">
            <a:tbl>
              <a:tblPr/>
              <a:tblGrid>
                <a:gridCol w="1925640"/>
                <a:gridCol w="1925640"/>
                <a:gridCol w="1927440"/>
                <a:gridCol w="1925640"/>
                <a:gridCol w="192564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auxílio de alunos em relação à atividades que exigem o uso da internet e acesso aos portais como o Qacadêmico e a disponibilidade de materiais de apoio na biblioteca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s estudantes compreenderem como funcionam os meios de avaliação do campus (como provas) e a questão de organização e otimização de tem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gração de estudantes interessados em projetos do campus e a criação de grupos de estudos inter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riação de mais projetos que envolvam a participação de alunos e a maior divulgação des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centivar os alunos a participar de atividades extracurriculares que irão facilitar na naprendizagem (aulas extras, recorrer aos estudantes mais experientes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96920" y="1114560"/>
          <a:ext cx="10463040" cy="6456240"/>
        </p:xfrm>
        <a:graphic>
          <a:graphicData uri="http://schemas.openxmlformats.org/drawingml/2006/table">
            <a:tbl>
              <a:tblPr/>
              <a:tblGrid>
                <a:gridCol w="2092320"/>
                <a:gridCol w="2092320"/>
                <a:gridCol w="2093760"/>
                <a:gridCol w="2092320"/>
                <a:gridCol w="2092320"/>
              </a:tblGrid>
              <a:tr h="11088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3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r condição ao aluno de entender o processo educacional como ferramenta de crescimento tanto de ordem cultural e intelectual, quanto de natureza moral, visto que este processo deve formar não apenas um profissional em sua área de atuação, mas também cidadãos responsáveis pela criação de uma sociedade mais equilibrad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siderando o público alvo do IFCE/Caucaia, o deslocamento até a unidade escolar seria um ponto importante. A instabilidade no serviço de transporte escolar afeta o processo de aprendizado – vide horários das rotas, que afetam em especial o horário de término da aula. Do ponto de vista pedagógico, a falta do material didático que ainda não foi entregue aos alunos, vem causando certa perda de referência na assimilação dos conteúdos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engajamento da turma no processo educ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(e correto gerenciamento) dos recursos envolvidos no bom funcionamento da institui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comprometimento com seu papel de EDUCADOR – não apenas de transmissor de conteú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28520" y="103320"/>
          <a:ext cx="10442520" cy="733572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6109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É a transportes escolar nos dias de meio período pois os alunos so tem escolares se estudarem o período t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a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ra mim seria ótimo o estudo integral todos os 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07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e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er mais fardas e melhoria constante nos dependências fís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assessoramento e excesso de atividades no início / fase adaptaçã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imento de fardas necessárias, alimentação diferenciada e bem nutricional. Fornecer itens de estudo e apoio pedagógico constant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08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unos sem acesso a informações, sem uma rotina fixa de estudos e não presentes em aul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m relação a quantidade de almoço e merenda (alguns alunos que ficam por último na fila acabaram recebendo menos alimento) e melhor cardápio para os lanches da manhã e tarde (mais variado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divulgação de livros [palavra ilegível] para facilitar os estudos e compreens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criação de projetos capazes de conectar o conhecimento e a criatividade dos alunos, incentivando-os ao estudo de maneira dinâmic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28520" y="106200"/>
          <a:ext cx="10442520" cy="710424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3661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falta de foco no processo educacional que sobre interferência de outros fatores, em especial uso inadequado dos meios de comunicação via inter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rcebo, de forma pontual, indefinição nas decisões relacionadas a algumas questões pedagógicas. Vide caso dos professores de Sociologia e História (1º período de Química), que estiveram ausentes por diversas aulas seguid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nho tomado conhecimento de que o controle de turma por alguns professores tem deixado a desejar. Alunos dispersos, conversas paralelas, uso de celular em sala parecem estar passando despercebido por alguns professo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hecer o aluno, trabalhar com um sistema educacional, criar condições para o engajamento, observar as tendênci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tes de qualquer coisa, um trabalho conjunto entre família e comunidade escolar na conscientização da importância do processo educacional como ferramenta transformadora da sociedade, destacando na prática, casos de sucesso daqueles que já passaram pela instituiçã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52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b050"/>
                </a:solidFill>
                <a:latin typeface="Century Schoolbook"/>
              </a:rPr>
              <a:t>PARTICIPAÇÃO ESTUDANTIL (2023.1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Imagem 4" descr=""/>
          <p:cNvPicPr/>
          <p:nvPr/>
        </p:nvPicPr>
        <p:blipFill>
          <a:blip r:embed="rId1"/>
          <a:srcRect l="29138" t="20090" r="31155" b="20090"/>
          <a:stretch/>
        </p:blipFill>
        <p:spPr>
          <a:xfrm>
            <a:off x="236520" y="793800"/>
            <a:ext cx="6769080" cy="4424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m 6" descr=""/>
          <p:cNvPicPr/>
          <p:nvPr/>
        </p:nvPicPr>
        <p:blipFill>
          <a:blip r:embed="rId2"/>
          <a:srcRect l="29811" t="57183" r="33177" b="20090"/>
          <a:stretch/>
        </p:blipFill>
        <p:spPr>
          <a:xfrm>
            <a:off x="5349960" y="4210200"/>
            <a:ext cx="476568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4T22:02:27Z</dcterms:created>
  <dc:creator>Katharine Magalhães</dc:creator>
  <dc:description/>
  <cp:keywords>DAEAvQC_sx0 BACRGa6bcSE</cp:keywords>
  <dc:language>en-US</dc:language>
  <cp:lastModifiedBy>Reginaldo</cp:lastModifiedBy>
  <dcterms:modified xsi:type="dcterms:W3CDTF">2023-07-17T11:53:43Z</dcterms:modified>
  <cp:revision>91</cp:revision>
  <dc:subject/>
  <dc:title>Encontro Pedagógico 2020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7-01T00:00:00Z</vt:filetime>
  </property>
  <property fmtid="{D5CDD505-2E9C-101B-9397-08002B2CF9AE}" pid="3" name="Creator">
    <vt:lpwstr>Canva</vt:lpwstr>
  </property>
  <property fmtid="{D5CDD505-2E9C-101B-9397-08002B2CF9AE}" pid="4" name="LastSaved">
    <vt:filetime>2020-09-24T00:00:00Z</vt:filetime>
  </property>
</Properties>
</file>